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5FB-BD08-4D62-A57D-DD016B3D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298-6981-469B-BDCF-0BEA978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CA3-C0BD-4073-AB7B-61BE0400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8CF-46D6-451B-AAC8-4926C3DE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3C69-0EF8-45F5-A5C9-9E692A7F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3B25-5C20-427C-A981-CFBCE1E3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95C0-D553-4D95-8638-A9E7E90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061-7996-4E3F-8E76-D4B95EC7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0C7-D603-4474-95FE-8C29F5A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0E6A-F9A5-4DEE-940E-740BF8A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6881-41B7-4BA8-BCCB-D8A8719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AFD-FF66-4CAA-A478-CBA8AA0A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E15A-2100-46E9-9D95-8DB3585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A43-F567-431A-BC87-8A31B63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4A46-7399-4F36-BBCF-11506501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97B3-3CEC-4FA6-B40A-F2C4F8F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1749-0F50-4AE4-9A3B-E591241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EF7-400D-4CF2-A5F1-E5DF5C8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E0F-9DE3-443C-9117-22CE150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1DB-1ABE-496E-AADC-C282E35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0AC-0318-4E48-A556-D3514862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ECE-76E5-455A-8489-0FE8E054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439-3CEA-48F4-A52B-84176A6E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9D2-F853-4A29-B4B7-5DA1C02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7E0-997A-4A6E-8559-8C46900EC4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9A2-11B9-4CCE-B8B5-6F5DF77756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fzibran@ucalgary.ca" TargetMode="External"/><Relationship Id="rId3" Type="http://schemas.openxmlformats.org/officeDocument/2006/relationships/hyperlink" Target="http://www.ucalgary.ca/~mfzibran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:00 PM – 4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11 AM-12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Time Box Assignmen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Excel Spreadshe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Access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 Nov: Problem Solv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1 due on Oct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2 due on Nov 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45:42Z</dcterms:created>
  <dc:creator>Fahim</dc:creator>
  <dc:description/>
  <dc:language>en-US</dc:language>
  <cp:lastModifiedBy>Fahim</cp:lastModifiedBy>
  <dcterms:modified xsi:type="dcterms:W3CDTF">2008-09-15T21:04:12Z</dcterms:modified>
  <cp:revision>13</cp:revision>
  <dc:subject/>
  <dc:title>CPSC 203 Tutorial Section: T32</dc:title>
</cp:coreProperties>
</file>